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0F9-90E8-45B9-B139-D1F46E17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988-C807-4936-8E6C-23FCF1A2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D71-C706-4705-A645-3E7DB5B8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765-5462-48FF-81F0-958FD8D1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C5A-118A-4A48-A30C-381F4EF7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898-7DB2-4B37-AF55-BA7FF732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F6D-A4AF-4121-8014-9BB4FE75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DFF-619F-4BF9-B5BF-211C4A3B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2E4-1811-4EE8-AB83-A5EC325C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E14-BEFC-4C25-B890-2F8ADDBC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2F1-6855-49B5-82D9-93BA2E01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1F4-E638-436B-B987-E5DC0074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7A6D-50F3-40D4-AF40-4757030E9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1676520" y="228600"/>
            <a:ext cx="586728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0000"/>
                </a:solidFill>
                <a:latin typeface="BlackChancery"/>
              </a:rPr>
              <a:t>Challenges</a:t>
            </a:r>
            <a:br>
              <a:rPr sz="5600"/>
            </a:br>
            <a:r>
              <a:rPr b="1" lang="en-US" sz="5600" spc="-1" strike="noStrike">
                <a:solidFill>
                  <a:srgbClr val="ff0000"/>
                </a:solidFill>
                <a:latin typeface="BlackChancery"/>
              </a:rPr>
              <a:t>to the</a:t>
            </a:r>
            <a:br>
              <a:rPr sz="5600"/>
            </a:br>
            <a:r>
              <a:rPr b="1" lang="en-US" sz="5600" spc="-1" strike="noStrike">
                <a:solidFill>
                  <a:srgbClr val="ff0000"/>
                </a:solidFill>
                <a:latin typeface="BlackChancery"/>
              </a:rPr>
              <a:t>“Concert” System:</a:t>
            </a:r>
            <a:br>
              <a:rPr sz="5600"/>
            </a:br>
            <a:r>
              <a:rPr b="1" lang="en-US" sz="5600" spc="-1" strike="noStrike">
                <a:solidFill>
                  <a:srgbClr val="ff0000"/>
                </a:solidFill>
                <a:latin typeface="BlackChancery"/>
              </a:rPr>
              <a:t>The 1820s-1830 Revolutions</a:t>
            </a:r>
            <a:endParaRPr b="1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1752480" y="5410080"/>
            <a:ext cx="5715000" cy="1169280"/>
          </a:xfrm>
          <a:prstGeom prst="rect">
            <a:avLst/>
          </a:prstGeom>
          <a:noFill/>
          <a:ln w="9360">
            <a:solidFill>
              <a:srgbClr val="5dae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aeff"/>
                </a:solidFill>
                <a:latin typeface="Spirit Medium"/>
              </a:rPr>
              <a:t>Mr. Robert Kuenzi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aeff"/>
                </a:solidFill>
                <a:latin typeface="Spirit Medium"/>
              </a:rPr>
              <a:t>Nathan Hale H.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2280" y="7632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Results of the </a:t>
            </a:r>
            <a:r>
              <a:rPr b="1" lang="en-US" sz="3600" spc="-1" strike="noStrike">
                <a:solidFill>
                  <a:srgbClr val="ff0000"/>
                </a:solidFill>
                <a:latin typeface="Spirit Medium"/>
              </a:rPr>
              <a:t>1820s-1830 </a:t>
            </a: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Revolutions?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914400"/>
            <a:ext cx="8305560" cy="58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375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Concert of Europe provided for a recovery of Europe after the long years of Revolution and Napoleonic Wars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conservatives did NOT reverse ALL of the reforms put in place by the French Revolution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Liberalism would challenge the conservative plan for European peace and law and order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se revolutions were successful only in W. Europe: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1195560" indent="-34308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heir success was in their popular support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1195560" indent="-34308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Middle class lead, aided by the urban lower classes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successful revolutions had benefited the middle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lass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the workers, who had done so much of the rioting and fighting, were left with empty hands!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refore, these revolutions left much unfinished &amp; a seething, unsatisfied working class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52280" y="15228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Revolutionary Movements in the Early 19</a:t>
            </a:r>
            <a:r>
              <a:rPr b="1" lang="en-US" sz="4400" spc="-1" strike="noStrike" baseline="30000">
                <a:solidFill>
                  <a:srgbClr val="ff0000"/>
                </a:solidFill>
                <a:latin typeface="Spirit Medium"/>
              </a:rPr>
              <a:t>c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3" descr="map-Revolutionary Movements of the 1820s"/>
          <p:cNvPicPr/>
          <p:nvPr/>
        </p:nvPicPr>
        <p:blipFill>
          <a:blip r:embed="rId1"/>
          <a:stretch/>
        </p:blipFill>
        <p:spPr>
          <a:xfrm>
            <a:off x="1600200" y="990720"/>
            <a:ext cx="6019920" cy="5448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5" name="Oval 4"/>
          <p:cNvSpPr/>
          <p:nvPr/>
        </p:nvSpPr>
        <p:spPr>
          <a:xfrm>
            <a:off x="2057400" y="4952880"/>
            <a:ext cx="76212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5"/>
          <p:cNvSpPr/>
          <p:nvPr/>
        </p:nvSpPr>
        <p:spPr>
          <a:xfrm>
            <a:off x="2971800" y="5105520"/>
            <a:ext cx="167652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6"/>
          <p:cNvSpPr/>
          <p:nvPr/>
        </p:nvSpPr>
        <p:spPr>
          <a:xfrm>
            <a:off x="5486400" y="5410080"/>
            <a:ext cx="9907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7"/>
          <p:cNvSpPr/>
          <p:nvPr/>
        </p:nvSpPr>
        <p:spPr>
          <a:xfrm>
            <a:off x="6172200" y="1676520"/>
            <a:ext cx="129528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33480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Decembrist Uprising - 1825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6" descr="Kolman_decembrist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90720" y="1363680"/>
            <a:ext cx="7315200" cy="4960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2280" y="15228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Decembrist Revolt, 1825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3520" y="1066680"/>
            <a:ext cx="830556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Russian upper class had come into contact with western liberal ideas during the Napoleonic Wars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ate November, 1825 </a:t>
            </a:r>
            <a:r>
              <a:rPr b="0" lang="en-US" sz="25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Czar Alexander I died suddenly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He had no direct heir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dynastic crisis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596960" indent="-279360">
              <a:lnSpc>
                <a:spcPct val="100000"/>
              </a:lnSpc>
              <a:spcBef>
                <a:spcPts val="1188"/>
              </a:spcBef>
              <a:buClr>
                <a:srgbClr val="00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Constantine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married a woman, not of royal blood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596960" indent="-279360">
              <a:lnSpc>
                <a:spcPct val="100000"/>
              </a:lnSpc>
              <a:spcBef>
                <a:spcPts val="1188"/>
              </a:spcBef>
              <a:buClr>
                <a:srgbClr val="00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Nicholas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named by Alexander I as his heir before his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                 death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596960" indent="-279360">
              <a:lnSpc>
                <a:spcPct val="100000"/>
              </a:lnSpc>
              <a:spcBef>
                <a:spcPts val="1188"/>
              </a:spcBef>
              <a:buClr>
                <a:srgbClr val="00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Russian troops were to take an oath of allegiance to Nicholas, who was less popular than Constantine [Nicholas was seen as more reactionary]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December 26, 1825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a Moscow regiment marched into the Senate Square in St. Petersburg and refused to take the oath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52280" y="15228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Decembrist Revolt, 1825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33520" y="990720"/>
            <a:ext cx="830556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00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y wanted Constantin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00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icholas ordered the cavalry and artillery to attack the insurgent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Over 60 were killed.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5 plotters were executed.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Over 100 insurgents were exiled to Siberia.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00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Result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e first rebellion in modern Russian history where the rebels had specific political goals.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In their martyrdom, the Decembrists came to symbolize the dreams/ideals of all Russian liberals.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Nicholas was determined that his power would never again come into question </a:t>
            </a:r>
            <a:r>
              <a:rPr b="0" lang="en-US" sz="2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he was terrified of change!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2280" y="15228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Decembrist Uprising - 1825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4" descr="Czar Nicholas I"/>
          <p:cNvPicPr/>
          <p:nvPr/>
        </p:nvPicPr>
        <p:blipFill>
          <a:blip r:embed="rId1"/>
          <a:srcRect l="3209" t="2003" r="0" b="9468"/>
          <a:stretch/>
        </p:blipFill>
        <p:spPr>
          <a:xfrm>
            <a:off x="838080" y="1066680"/>
            <a:ext cx="4003920" cy="5181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7" name="Text Box 5"/>
          <p:cNvSpPr/>
          <p:nvPr/>
        </p:nvSpPr>
        <p:spPr>
          <a:xfrm>
            <a:off x="838080" y="630864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Nicholas 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257800" y="1295280"/>
            <a:ext cx="342900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2001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thodoxy!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2001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utocracy!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2001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ism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2001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2001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ussification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2280" y="76320"/>
            <a:ext cx="85345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France: The “Restoration” Era 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Spirit Medium"/>
              </a:rPr>
              <a:t>(1815-1830)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28600" y="1143000"/>
            <a:ext cx="502920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43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France emerged from the chaos of its revolutionary period as the most liberal large state in Europe.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43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ouis XVIII governed France as a Constitutional monarch.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e agreed to observe the 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814 “Charter”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or Constitution of the Restoration perio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596960" indent="-279360">
              <a:lnSpc>
                <a:spcPct val="100000"/>
              </a:lnSpc>
              <a:spcBef>
                <a:spcPts val="1125"/>
              </a:spcBef>
              <a:buClr>
                <a:srgbClr val="00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mited royal power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596960" indent="-279360">
              <a:lnSpc>
                <a:spcPct val="100000"/>
              </a:lnSpc>
              <a:spcBef>
                <a:spcPts val="1125"/>
              </a:spcBef>
              <a:buClr>
                <a:srgbClr val="00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ranted legislative power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596960" indent="-279360">
              <a:lnSpc>
                <a:spcPct val="100000"/>
              </a:lnSpc>
              <a:spcBef>
                <a:spcPts val="1125"/>
              </a:spcBef>
              <a:buClr>
                <a:srgbClr val="00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otected civil rights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596960" indent="-279360">
              <a:lnSpc>
                <a:spcPct val="100000"/>
              </a:lnSpc>
              <a:spcBef>
                <a:spcPts val="1125"/>
              </a:spcBef>
              <a:buClr>
                <a:srgbClr val="00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pheld the Napoleon Code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410080" y="60199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uis XVIII  (r. 1814-1824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537160" y="1600200"/>
            <a:ext cx="3225960" cy="414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2280" y="13644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“Ultras”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962520" y="914400"/>
            <a:ext cx="502920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43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France was divided by those who had accepted the ideals of the Fr. Revolution and those who didn’t.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43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e Count of Artois was the leader of the “Ultra-Royalists”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43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1815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ffff00"/>
                </a:solidFill>
                <a:latin typeface="Comic Sans MS"/>
              </a:rPr>
              <a:t>“White Terror”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oyalist mobs killed 1000s of former revolutionari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43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1816 elections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Ultras were rejected in the Chamber of Deputies election in favor of a moderate royalist majority dependent on middle class support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541008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he Count of Artois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he future King Charles X  (r. 1824-1830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5" descr="149583~Charles-of-France-1757-1836-Count-of-Artois-Future-Charles-X-King-of-France-Count of Artois"/>
          <p:cNvPicPr/>
          <p:nvPr/>
        </p:nvPicPr>
        <p:blipFill>
          <a:blip r:embed="rId1">
            <a:lum contrast="6000"/>
          </a:blip>
          <a:srcRect l="6078" t="4568" r="5705" b="8575"/>
          <a:stretch/>
        </p:blipFill>
        <p:spPr>
          <a:xfrm>
            <a:off x="457200" y="1295280"/>
            <a:ext cx="3024360" cy="396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2280" y="13644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France:  Conservative Backlash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143000"/>
            <a:ext cx="8076960" cy="54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00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20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Duke of Berri, son of Artois, was murdered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00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yalists blamed the lef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00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uis XVIII moved the govt. more to the righ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anges in electoral laws narrowed the eligible voter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ensorship was impose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00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berals were driven out of legal political life and into illegal activitie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00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23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riumph of reactionary forces!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 troops were authorized by the Concert of Europe to crush the Spanish Revolution and restore another Bourbon ruler, Ferdinand VII, to the throne ther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52280" y="152280"/>
            <a:ext cx="8991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King Charles X of France  </a:t>
            </a:r>
            <a:r>
              <a:rPr b="1" lang="en-US" sz="3600" spc="-1" strike="noStrike">
                <a:solidFill>
                  <a:srgbClr val="ff0000"/>
                </a:solidFill>
                <a:latin typeface="Spirit Medium"/>
              </a:rPr>
              <a:t>(r. 1824-1830)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934920"/>
            <a:ext cx="8458200" cy="56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43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Comic Sans MS"/>
              </a:rPr>
              <a:t>His Goals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Lessen the influence of the middle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class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Limit the right to vote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Put the clergy back in charge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of education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Public money used to pay nobles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for the loss of their lands during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he Fr Revolution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43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Comic Sans MS"/>
              </a:rPr>
              <a:t>His Program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Attack the 1814 Charter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Control the press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Dismiss the Chamber of Deputies when it turned against him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Appointed an ultra-reactionary as his first minister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5749920" y="1143000"/>
            <a:ext cx="298440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2" name="Rectangle 8"/>
          <p:cNvSpPr/>
          <p:nvPr/>
        </p:nvSpPr>
        <p:spPr>
          <a:xfrm>
            <a:off x="4324320" y="7175520"/>
            <a:ext cx="456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mited royal power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ant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28600" y="228600"/>
            <a:ext cx="87631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An Evaluation of the Congress of Vienna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33520" y="1066680"/>
            <a:ext cx="769608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Congress of Vienna was criticized for ignoring the liberal &amp; nationalist aspirations of so many peoples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leading statesmen at Vienna underestimated the new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nationalism and liberalism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generated by the French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Revolution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Not until the unification of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Germany in 1870-71 was the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balance of power upset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Not until World War I did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Europe have another general war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5" descr="German Revolutionaries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248520" y="2819520"/>
            <a:ext cx="2431800" cy="3147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85800" y="1752480"/>
            <a:ext cx="777240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68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1830 Election brought in another liberal majority.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68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Comic Sans MS"/>
              </a:rPr>
              <a:t>July Ordinances</a:t>
            </a:r>
            <a:endParaRPr b="1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437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He dissolved the entire parliament.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437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trict censorship imposed.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437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Changed the voting laws so that the government in the future could be assured of a conservative victory.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52280" y="380880"/>
            <a:ext cx="8991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King Charles X of France  </a:t>
            </a:r>
            <a:r>
              <a:rPr b="1" lang="en-US" sz="3600" spc="-1" strike="noStrike">
                <a:solidFill>
                  <a:srgbClr val="ff0000"/>
                </a:solidFill>
                <a:latin typeface="Spirit Medium"/>
              </a:rPr>
              <a:t>(r. 1824-1830)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52280" y="13644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Spirit Medium"/>
              </a:rPr>
              <a:t>To the Barracades</a:t>
            </a: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 Revolution, Again!!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4" descr="Delacoix's  Liberty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00200" y="1066680"/>
            <a:ext cx="6095880" cy="501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304920" y="62485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orkers, students and some of the middle class call for a Republic!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2280" y="13644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Louis Philippe </a:t>
            </a: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 The “Citizen King”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52280" y="990720"/>
            <a:ext cx="5943600" cy="57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Duke of Orleans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Relative of the Bourbons, but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had stayed clear of the </a:t>
            </a:r>
            <a:r>
              <a:rPr b="0" i="1" lang="en-US" sz="2200" spc="-1" strike="noStrike">
                <a:solidFill>
                  <a:srgbClr val="ffffff"/>
                </a:solidFill>
                <a:latin typeface="Comic Sans MS"/>
              </a:rPr>
              <a:t>Ultras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Lead a thoroughly bourgeois life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His Program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Property qualifications reduced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enough to double eligible voters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Press censorship abolished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he King ruled </a:t>
            </a: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by the will of the </a:t>
            </a:r>
            <a:br>
              <a:rPr sz="1900"/>
            </a:b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people, </a:t>
            </a:r>
            <a:r>
              <a:rPr b="0" i="1" lang="en-US" sz="1900" spc="-1" strike="noStrike" u="sng">
                <a:solidFill>
                  <a:srgbClr val="ffffff"/>
                </a:solidFill>
                <a:uFillTx/>
                <a:latin typeface="Comic Sans MS"/>
              </a:rPr>
              <a:t>not</a:t>
            </a: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 by the will of God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he Fr Revolution’s tricolor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replaced the Bourbon flag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government was now under the control of the wealthy middle class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638680" y="63086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r. 1830-1848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Louis-Philippe_de_Bourbon"/>
          <p:cNvPicPr/>
          <p:nvPr/>
        </p:nvPicPr>
        <p:blipFill>
          <a:blip r:embed="rId1">
            <a:lum contrast="6000"/>
          </a:blip>
          <a:srcRect l="0" t="0" r="1339" b="0"/>
          <a:stretch/>
        </p:blipFill>
        <p:spPr>
          <a:xfrm>
            <a:off x="5486400" y="1066680"/>
            <a:ext cx="3429000" cy="513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52280" y="13644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Louis Philippe </a:t>
            </a: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 The “Citizen King”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62520" y="1066680"/>
            <a:ext cx="4876560" cy="56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His government ignored the needs and demands of the workers in the cities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hey were seen as another nuisance and source of possible disorder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July, 1832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an uprising in Paris was put down by force and 800 were killed or wounded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834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Silk workers strike in Lyon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was crushed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Seething underclass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Was seen as a violation of the status quo set down at the Congress of Vienna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6" descr="caricature  of Louis Phillipe"/>
          <p:cNvPicPr/>
          <p:nvPr/>
        </p:nvPicPr>
        <p:blipFill>
          <a:blip r:embed="rId1"/>
          <a:stretch/>
        </p:blipFill>
        <p:spPr>
          <a:xfrm>
            <a:off x="404640" y="1143000"/>
            <a:ext cx="3405240" cy="4552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5" name="Picture 7" descr="Louis-Philippe_de_Bourbon"/>
          <p:cNvPicPr/>
          <p:nvPr/>
        </p:nvPicPr>
        <p:blipFill>
          <a:blip r:embed="rId2"/>
          <a:stretch/>
        </p:blipFill>
        <p:spPr>
          <a:xfrm>
            <a:off x="2971800" y="7848720"/>
            <a:ext cx="3552840" cy="513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Louis-Philippe_de_Bourbon"/>
          <p:cNvPicPr/>
          <p:nvPr/>
        </p:nvPicPr>
        <p:blipFill>
          <a:blip r:embed="rId3"/>
          <a:stretch/>
        </p:blipFill>
        <p:spPr>
          <a:xfrm>
            <a:off x="3124080" y="8001000"/>
            <a:ext cx="3552840" cy="5137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380880" y="57913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 caricature of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uis Philipp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52280" y="30492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1830 Revolu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3" descr="map-Revols of 1820s &amp; 1830s"/>
          <p:cNvPicPr/>
          <p:nvPr/>
        </p:nvPicPr>
        <p:blipFill>
          <a:blip r:embed="rId1"/>
          <a:stretch/>
        </p:blipFill>
        <p:spPr>
          <a:xfrm>
            <a:off x="2057400" y="1225440"/>
            <a:ext cx="5181480" cy="517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0" name="Oval 6"/>
          <p:cNvSpPr/>
          <p:nvPr/>
        </p:nvSpPr>
        <p:spPr>
          <a:xfrm>
            <a:off x="4572000" y="3816360"/>
            <a:ext cx="9144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5334120" y="320688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85800" y="1752480"/>
            <a:ext cx="7772400" cy="36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68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Northern Italy – Parma, Modena, and Papal States – experienced liberalism</a:t>
            </a:r>
            <a:endParaRPr b="1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68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talian nationalists – </a:t>
            </a:r>
            <a:r>
              <a:rPr b="0" lang="en-US" sz="2700" spc="-1" strike="noStrike">
                <a:solidFill>
                  <a:srgbClr val="ffff00"/>
                </a:solidFill>
                <a:latin typeface="Comic Sans MS"/>
              </a:rPr>
              <a:t>Mazzini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- called for unification (</a:t>
            </a:r>
            <a:r>
              <a:rPr b="0" i="1" lang="en-US" sz="2700" spc="-1" strike="noStrike">
                <a:solidFill>
                  <a:srgbClr val="ffffff"/>
                </a:solidFill>
                <a:latin typeface="Comic Sans MS"/>
              </a:rPr>
              <a:t>Young Italy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68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Comic Sans MS"/>
              </a:rPr>
              <a:t>Carbonari – </a:t>
            </a:r>
            <a:r>
              <a:rPr b="1" lang="en-US" sz="2700" spc="-1" strike="noStrike">
                <a:solidFill>
                  <a:srgbClr val="ffffff"/>
                </a:solidFill>
                <a:latin typeface="Comic Sans MS"/>
              </a:rPr>
              <a:t>secret nationalist societies</a:t>
            </a:r>
            <a:endParaRPr b="1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68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ustrian troops under Metternich sent in to crush unorganized liberals</a:t>
            </a:r>
            <a:endParaRPr b="1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2280" y="38088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Liberalism in Italy (1831-32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52280" y="30492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1830 Revolu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3" descr="map-Revols of 1820s &amp; 1830s"/>
          <p:cNvPicPr/>
          <p:nvPr/>
        </p:nvPicPr>
        <p:blipFill>
          <a:blip r:embed="rId1"/>
          <a:stretch/>
        </p:blipFill>
        <p:spPr>
          <a:xfrm>
            <a:off x="2057400" y="1225440"/>
            <a:ext cx="5181480" cy="517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Oval 5"/>
          <p:cNvSpPr/>
          <p:nvPr/>
        </p:nvSpPr>
        <p:spPr>
          <a:xfrm>
            <a:off x="4038480" y="2444760"/>
            <a:ext cx="9144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52280" y="15228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Belgian Independence, 1830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80880" y="1143000"/>
            <a:ext cx="853452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first to follow the lead of France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ts union with Holland after the Congress of Vienna had not proved successful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re had been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very little popula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agitation for Belgian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ationalism before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830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seldom had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ationalism arisen so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uddenly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Wide cultural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differences: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North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Dutch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Protestant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seafarers and traders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South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French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Catholic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farmers and individual workers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4" descr="map-creation of Belgium-1831-39"/>
          <p:cNvPicPr/>
          <p:nvPr/>
        </p:nvPicPr>
        <p:blipFill>
          <a:blip r:embed="rId1"/>
          <a:stretch/>
        </p:blipFill>
        <p:spPr>
          <a:xfrm>
            <a:off x="3962520" y="2209680"/>
            <a:ext cx="487656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52280" y="22860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Belgian Revolution - 1830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4" descr="Belgian Revolu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38080" y="1200240"/>
            <a:ext cx="7620120" cy="5276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52280" y="30492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1830 Revolu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3" descr="map-Revols of 1820s &amp; 1830s"/>
          <p:cNvPicPr/>
          <p:nvPr/>
        </p:nvPicPr>
        <p:blipFill>
          <a:blip r:embed="rId1"/>
          <a:stretch/>
        </p:blipFill>
        <p:spPr>
          <a:xfrm>
            <a:off x="2057400" y="1225440"/>
            <a:ext cx="5181480" cy="517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4" name="Oval 7"/>
          <p:cNvSpPr/>
          <p:nvPr/>
        </p:nvSpPr>
        <p:spPr>
          <a:xfrm>
            <a:off x="6248520" y="2597040"/>
            <a:ext cx="99036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22860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“Concert” of Europe System Established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685800" y="1960560"/>
            <a:ext cx="8077320" cy="44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811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The principle of collective security was established.  Examples: </a:t>
            </a:r>
            <a:endParaRPr b="1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56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Congress of Aix-la-Chapelle [1816]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56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Congress of Troppau [1820]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56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Congress of Laibach [1821]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56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Congress of Verona [1822]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811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Their goal was to define and monitor the status quo.</a:t>
            </a:r>
            <a:endParaRPr b="1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52280" y="33480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A Stirring of Polish Nationalism - 1830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7" descr="Polish Uprising"/>
          <p:cNvPicPr/>
          <p:nvPr/>
        </p:nvPicPr>
        <p:blipFill>
          <a:blip r:embed="rId1"/>
          <a:stretch/>
        </p:blipFill>
        <p:spPr>
          <a:xfrm>
            <a:off x="914400" y="1371600"/>
            <a:ext cx="76201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52280" y="15228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A Stirring of Polish Nationalism - 1830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80880" y="1174680"/>
            <a:ext cx="845820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bloodiest struggle of the 1830 revolutions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Poles in and around Warsaw gain a special status by the Congress of Vienna within the Russian Empire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heir own constitution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Local autonomy granted in 1818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After Tsar Alexander I dies, the Poles became restless under the tyrannical rule of Tsar Nicholas I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Polish intellectuals were deeply influenced by Romanticism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Rumors reached Poland that Nicholas I was planning to use Polish troops to put down the revolutions in France and Belgium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everal Polish secret societies rebelled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52280" y="22860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A Stirring of Polish Nationalism - 1830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219320"/>
            <a:ext cx="81532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Had the Poles been united, thi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revolt might have been successful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But, the revolutionaries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were split into moderates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and radicals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Poles had hoped that Fr &amp;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Eng would come to their aid,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but they didn’t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Even so, it took the Russian army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a year to suppress this rebellion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The irony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by drawing the Russian army to Warsaw for almost a year, the Poles may well have kept Nicholas I from answering Holland’s call for help in suppressing the Belgian Revolt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4" descr="Polish uprising against Russia - 1830-31 - b"/>
          <p:cNvPicPr/>
          <p:nvPr/>
        </p:nvPicPr>
        <p:blipFill>
          <a:blip r:embed="rId1"/>
          <a:stretch/>
        </p:blipFill>
        <p:spPr>
          <a:xfrm>
            <a:off x="5819760" y="1371600"/>
            <a:ext cx="2695680" cy="358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257800" y="3352680"/>
            <a:ext cx="3429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Independence Movements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in the Balka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3" descr="map-Nationalistic Movements in the Balkans, 1815-1830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5800" y="380880"/>
            <a:ext cx="3890880" cy="6248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4" name="Line 5"/>
          <p:cNvSpPr/>
          <p:nvPr/>
        </p:nvSpPr>
        <p:spPr>
          <a:xfrm flipH="1">
            <a:off x="3505320" y="1676520"/>
            <a:ext cx="1218960" cy="75960"/>
          </a:xfrm>
          <a:prstGeom prst="line">
            <a:avLst/>
          </a:prstGeom>
          <a:ln w="38160">
            <a:solidFill>
              <a:srgbClr val="5dae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724280" y="1447920"/>
            <a:ext cx="3048120" cy="3988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daeff"/>
                </a:solidFill>
                <a:latin typeface="Comic Sans MS"/>
              </a:rPr>
              <a:t>Wallachia &amp; Moldav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52280" y="22860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Greek Revolution - 1821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3" descr="Greek Revolution of 1821"/>
          <p:cNvPicPr/>
          <p:nvPr/>
        </p:nvPicPr>
        <p:blipFill>
          <a:blip r:embed="rId1"/>
          <a:stretch/>
        </p:blipFill>
        <p:spPr>
          <a:xfrm>
            <a:off x="990720" y="1143000"/>
            <a:ext cx="7277040" cy="52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09480" y="76320"/>
            <a:ext cx="8534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Greek Independenc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962520" y="914400"/>
            <a:ext cx="4952880" cy="59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“Eastern Question”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Comic Sans MS"/>
              </a:rPr>
              <a:t>Hetairia Philike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a secret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ociety that inspired an uprising against the Turks in 1821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Pan-Hellenism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827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Battle of Navarino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r, Fr, Rus destroyed the Ottoman-Egyptian fleet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828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Rus declared wa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on the Otts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829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Treaty of Adrianople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830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Greece declared an independent nation [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Treaty of London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]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4" descr="Greece on the Ruins of Missolonght - Delacroix - 1827"/>
          <p:cNvPicPr/>
          <p:nvPr/>
        </p:nvPicPr>
        <p:blipFill>
          <a:blip r:embed="rId1"/>
          <a:stretch/>
        </p:blipFill>
        <p:spPr>
          <a:xfrm>
            <a:off x="425520" y="1050840"/>
            <a:ext cx="323208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1" name="Text Box 6"/>
          <p:cNvSpPr/>
          <p:nvPr/>
        </p:nvSpPr>
        <p:spPr>
          <a:xfrm>
            <a:off x="0" y="592776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Greece on the Ruins of Missilonghi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by Delacroix, 1827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52280" y="33480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Lord Byron – Martyr in Greec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4" descr="Thomas Phillips-Portrait of Lord Byron-1813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38360" y="1409760"/>
            <a:ext cx="4167360" cy="506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52280" y="30492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1830 Revolu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4" descr="map-Revols of 1820s &amp; 1830s"/>
          <p:cNvPicPr/>
          <p:nvPr/>
        </p:nvPicPr>
        <p:blipFill>
          <a:blip r:embed="rId1"/>
          <a:stretch/>
        </p:blipFill>
        <p:spPr>
          <a:xfrm>
            <a:off x="2057400" y="1225440"/>
            <a:ext cx="5181480" cy="517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6" name="Oval 5"/>
          <p:cNvSpPr/>
          <p:nvPr/>
        </p:nvSpPr>
        <p:spPr>
          <a:xfrm>
            <a:off x="3657600" y="3130560"/>
            <a:ext cx="9144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2280" y="13644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Europe in 1830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3" descr="map-Europe in 1830"/>
          <p:cNvPicPr/>
          <p:nvPr/>
        </p:nvPicPr>
        <p:blipFill>
          <a:blip r:embed="rId1"/>
          <a:stretch/>
        </p:blipFill>
        <p:spPr>
          <a:xfrm>
            <a:off x="1092240" y="1008000"/>
            <a:ext cx="71373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7632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Congress of Verona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4" descr="Congress of Verona"/>
          <p:cNvPicPr/>
          <p:nvPr/>
        </p:nvPicPr>
        <p:blipFill>
          <a:blip r:embed="rId1"/>
          <a:stretch/>
        </p:blipFill>
        <p:spPr>
          <a:xfrm>
            <a:off x="704880" y="838080"/>
            <a:ext cx="7905600" cy="581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152280"/>
            <a:ext cx="8763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19</a:t>
            </a:r>
            <a:r>
              <a:rPr b="1" lang="en-US" sz="4400" spc="-1" strike="noStrike" baseline="30000">
                <a:solidFill>
                  <a:srgbClr val="ff0000"/>
                </a:solidFill>
                <a:latin typeface="Spirit Medium"/>
              </a:rPr>
              <a:t>c</a:t>
            </a: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 Conservatis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09480" y="914400"/>
            <a:ext cx="8077320" cy="58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Conservatism arose in reaction to liberalism &amp; became a popular alternative for those who were frightened by the violence unleashed by the French Revolution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Early conservatism was allied to the restored monarchical governments of Austria, Prussia, France, and England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Support for conservatism: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Came from the traditional ruling class.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Also supported by the peasants.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Supported by Romantic writers,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conservatives believed in order, society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and the state, faith, and tradition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010280" y="3809880"/>
            <a:ext cx="1489320" cy="1971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8600" y="152280"/>
            <a:ext cx="87631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Characteristics of Conservatis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1027080"/>
            <a:ext cx="8077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Conservatives viewed history as a continuum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Stability &amp; longevity, not progress and change, mark a good society. 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basis of society is organic, not contractual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only legitimate sources of political authority were God and history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3184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ey rejected the “social contract” theory.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Conservatives believed that self-interests do not lead to social harmony, but to social conflict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31840">
              <a:lnSpc>
                <a:spcPct val="100000"/>
              </a:lnSpc>
              <a:spcBef>
                <a:spcPts val="156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Denounced individualism and natural rights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o conservatives, society was hierarchical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pirit Medium"/>
              </a:rPr>
              <a:t>Conservatism in Austria and P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piri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rit Medium"/>
              </a:rPr>
              <a:t>Austria was extremely conservative as reaction to multiethnic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pirit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irit Medium"/>
              </a:rPr>
              <a:t>Metternich was leader of conserva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Spiri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pirit Medium"/>
              </a:rPr>
              <a:t>Initially Prussia had a reputation for liberalism, although gov’t reforms intended efficiency not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Spiri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pirit Medium"/>
              </a:rPr>
              <a:t>Carlsbad Diet</a:t>
            </a:r>
            <a:r>
              <a:rPr b="0" lang="en-US" sz="3200" spc="-1" strike="noStrike">
                <a:solidFill>
                  <a:srgbClr val="ffffff"/>
                </a:solidFill>
                <a:latin typeface="Spirit Medium"/>
              </a:rPr>
              <a:t> (1819) – called by Mettern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pirit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pirit Medium"/>
              </a:rPr>
              <a:t>Carlsbad Decrees</a:t>
            </a:r>
            <a:r>
              <a:rPr b="0" lang="en-US" sz="2800" spc="-1" strike="noStrike">
                <a:solidFill>
                  <a:srgbClr val="ffffff"/>
                </a:solidFill>
                <a:latin typeface="Spirit Medium"/>
              </a:rPr>
              <a:t> – crackdown on liberalism in universities; forced liberalism and nationalism under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pirit Medium"/>
              </a:rPr>
              <a:t>Conservatism in Bri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piri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rit Medium"/>
              </a:rPr>
              <a:t>Conservative </a:t>
            </a:r>
            <a:r>
              <a:rPr b="0" lang="en-US" sz="3200" spc="-1" strike="noStrike">
                <a:solidFill>
                  <a:srgbClr val="99cc00"/>
                </a:solidFill>
                <a:latin typeface="Spirit Medium"/>
              </a:rPr>
              <a:t>Tories</a:t>
            </a:r>
            <a:r>
              <a:rPr b="0" lang="en-US" sz="3200" spc="-1" strike="noStrike">
                <a:solidFill>
                  <a:srgbClr val="ffffff"/>
                </a:solidFill>
                <a:latin typeface="Spirit Medium"/>
              </a:rPr>
              <a:t> control gov’t after Napo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piri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pirit Medium"/>
              </a:rPr>
              <a:t>Corn Laws of 1816</a:t>
            </a:r>
            <a:r>
              <a:rPr b="0" lang="en-US" sz="3200" spc="-1" strike="noStrike">
                <a:solidFill>
                  <a:srgbClr val="ffffff"/>
                </a:solidFill>
                <a:latin typeface="Spirit Medium"/>
              </a:rPr>
              <a:t> halted importation of foreign grains in order to benefit wealthy land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Spirit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pirit Medium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Spirit Medium"/>
              </a:rPr>
              <a:t>Peterloo Massacre”</a:t>
            </a:r>
            <a:r>
              <a:rPr b="0" lang="en-US" sz="2800" spc="-1" strike="noStrike">
                <a:solidFill>
                  <a:srgbClr val="ffffff"/>
                </a:solidFill>
                <a:latin typeface="Spirit Medium"/>
              </a:rPr>
              <a:t> of 1819 – pro-liberal crowd protesting Corn Law attacked by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pirit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irit Medium"/>
              </a:rPr>
              <a:t>Liberal press was censored; mass meetings outla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pirit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irit Medium"/>
              </a:rPr>
              <a:t>Habeas corpus repealed for first time in English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2280" y="76320"/>
            <a:ext cx="8610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19</a:t>
            </a:r>
            <a:r>
              <a:rPr b="1" lang="en-US" sz="4400" spc="-1" strike="noStrike" baseline="30000">
                <a:solidFill>
                  <a:srgbClr val="ff0000"/>
                </a:solidFill>
                <a:latin typeface="Spirit Medium"/>
              </a:rPr>
              <a:t>c</a:t>
            </a: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 Latin American Independence Movement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3" descr="map-Latin American Independence, 1804-1830"/>
          <p:cNvPicPr/>
          <p:nvPr/>
        </p:nvPicPr>
        <p:blipFill>
          <a:blip r:embed="rId1"/>
          <a:stretch/>
        </p:blipFill>
        <p:spPr>
          <a:xfrm>
            <a:off x="1371600" y="838080"/>
            <a:ext cx="4610160" cy="5791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16:48:39Z</dcterms:created>
  <dc:creator>Ms. Susan M. Pojer</dc:creator>
  <dc:description/>
  <dc:language>en-US</dc:language>
  <cp:lastModifiedBy>Owner</cp:lastModifiedBy>
  <dcterms:modified xsi:type="dcterms:W3CDTF">2011-02-15T05:22:24Z</dcterms:modified>
  <cp:revision>76</cp:revision>
  <dc:subject/>
  <dc:title>Revolutions of the 1820s to 1830</dc:title>
</cp:coreProperties>
</file>